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1C4-F415-4111-9016-870E9347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11C-46B9-41A8-8A9E-3893654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F28-C7FC-4948-B09E-A4ED2BF6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DE3-1F6E-45CF-89D0-6F94B077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034-7F58-4736-9BB9-CF93DD0F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462-C702-4EEA-93AA-F5826645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5D1-240A-468B-B285-FFDEC054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58E-58BF-4490-B72B-4311AF4B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AAB-7C66-41F9-A618-1D91429C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D56-2054-468F-A1FF-BDAE518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74B-B922-41E7-9586-D9DA67BD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1F2-FB02-404A-B790-1C2F3E1E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4A04-7295-42B1-B4B2-1D09E44F2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TE HOU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whitehouse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OSS H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UE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blueroom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EEN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705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D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redroom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791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ST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eastroom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TE DINING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statedining" descr=""/>
          <p:cNvPicPr/>
          <p:nvPr/>
        </p:nvPicPr>
        <p:blipFill>
          <a:blip r:embed="rId1"/>
          <a:stretch/>
        </p:blipFill>
        <p:spPr>
          <a:xfrm>
            <a:off x="1371600" y="1936800"/>
            <a:ext cx="6553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INA RO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chinaroom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AL OFF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ovaloffice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3:48:35Z</dcterms:created>
  <dc:creator>lauletj</dc:creator>
  <dc:description/>
  <dc:language>en-US</dc:language>
  <cp:lastModifiedBy>Gateway </cp:lastModifiedBy>
  <dcterms:modified xsi:type="dcterms:W3CDTF">2001-04-07T12:34:20Z</dcterms:modified>
  <cp:revision>5</cp:revision>
  <dc:subject/>
  <dc:title>No Slide Title</dc:title>
</cp:coreProperties>
</file>